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A97-EAAF-435C-B37F-163D69D8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1E86-86EC-4F6A-B6AA-ADA08F86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AE2F-289E-46CE-B36C-9E1C230B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7BF6-1C1C-4A8B-843F-01D57D77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5378-B286-4507-93A5-FDB377E8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AD62-C049-4D85-98BB-2BBA3B62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4253-E4EF-4F70-BCAB-4C7F8833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94C1-3861-461B-AFE5-5E4A62FC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7089-C529-4AF2-A390-85674248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C554-3772-4701-9EBF-D8047D5B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E815-EAA8-4BF7-92FA-53691AB5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38D-655E-4C0A-9C04-23D9D61B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9D6A-D0E1-4647-817E-9D74E790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1771-45AE-4583-A726-1C970B91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798A-A074-4862-A3D1-68E1596C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75F3-B153-4208-8A7A-4C22ADB6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0419-2D8D-457D-A1B1-060322D3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6FB6E-CB3A-4685-B33B-541E3B5E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8583F-59DE-4D4F-B771-CAC11FBC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E872F-1E23-4B8A-A347-0AA87597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D60EF-4271-4E8A-8E41-D5000766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DECD5-9E9F-45C8-B001-9F36409A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2F6A-C3BC-447F-A78D-46632889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A10A0-48F5-4847-815F-93A5AE05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5C450-A1FD-448A-8A3C-DE7B40EA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89803-108C-48B1-A9CB-39BCBE6A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D6620-61CD-4D6C-BD26-482EDAA7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AE2A9-45F8-4238-857C-DEF8C6CC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A28EC-3695-4B64-BB18-7E729F65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B87B3-CE7E-455E-A9C7-2F96C285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B8FE2-D0D3-4415-90FA-1379CA9C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43D38-BD71-4749-B775-557E7538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96C90-D268-45DC-9209-F128D1BF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DB18-BBBE-4794-AF2E-79ED00CE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C5665-D38D-4F27-AEA5-0016103F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D357E-808D-4598-990A-DDC7B0EB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5FB58-F445-490A-ABBF-9E7D6D37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55E77-7900-41AB-9D3E-BAAEC521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E9B8B-BECF-499D-A1A4-1C505171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E4066-8C9C-4478-84D5-BC0B7741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95ED5-B553-45A0-ACF2-CF704226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51C89-B57E-4AD6-BB07-A82FAF93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A5DB6-46F3-4252-B4E4-DADB054A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E73B5-62DD-49F8-A868-9DA5D2FA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A061-39AF-4DE6-8046-79F9C7C8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C7C61-55F2-4CCB-89F3-F8451A9A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05616-A755-464C-B214-80A690C7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3CCB5-1239-4053-896D-D43A9750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31D0A-89E8-4F35-B1F8-033B2639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3C1FE-3E7F-41FB-803E-4EF78CC7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DA117-13E9-4C38-A44C-81AE64A4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B0BF2-A620-4868-8419-B17E74CD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775D4-9FCA-4973-9BEA-BF7A52DB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50306-6369-4879-8A63-D2BCDDAF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71E53-0111-4B6C-A888-22932F2E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1F7-1C11-4D43-BBDA-F470EEF8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3B8F2-6923-4559-AF8E-DF14EC02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AB29-B71E-4FC3-B162-E466CCF6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882F-DFC2-4300-838D-F16D6527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46E-4821-4565-9D8D-547F609F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BEAD-2027-44C6-A8AC-F1DA161179AC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1A3E-F261-4D4F-896A-B7D28CFD5ABE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388E-71A9-4856-BB11-A13A6A20F91A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6F48-0816-4473-9462-FFE23AB5EAF4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AE7A-3234-45A8-A330-8B47D957D36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408400" y="396720"/>
            <a:ext cx="7003800" cy="28828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08000" y="5084280"/>
            <a:ext cx="2519280" cy="158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полнили  ученики 9 класса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а Евгений и Платонов Данил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ководитель: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еренко Е.С. 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 Математика Н.Я. Виленкин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Прямая соединительная линия 4"/>
          <p:cNvSpPr/>
          <p:nvPr/>
        </p:nvSpPr>
        <p:spPr>
          <a:xfrm flipV="1">
            <a:off x="3851280" y="4869000"/>
            <a:ext cx="4465800" cy="720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7"/>
          <p:cNvSpPr/>
          <p:nvPr/>
        </p:nvSpPr>
        <p:spPr>
          <a:xfrm>
            <a:off x="5866560" y="5157720"/>
            <a:ext cx="73080" cy="216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2"/>
          <p:cNvSpPr/>
          <p:nvPr/>
        </p:nvSpPr>
        <p:spPr>
          <a:xfrm>
            <a:off x="5657040" y="4581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6881040" y="4437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rebuchet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4"/>
          <p:cNvSpPr/>
          <p:nvPr/>
        </p:nvSpPr>
        <p:spPr>
          <a:xfrm>
            <a:off x="4155840" y="479736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-</a:t>
            </a:r>
            <a:r>
              <a:rPr b="1" lang="ru-RU" sz="3200" spc="-1" strike="noStrike">
                <a:solidFill>
                  <a:srgbClr val="ffff00"/>
                </a:solidFill>
                <a:latin typeface="Trebuchet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17"/>
          <p:cNvSpPr/>
          <p:nvPr/>
        </p:nvSpPr>
        <p:spPr>
          <a:xfrm>
            <a:off x="7163640" y="4941720"/>
            <a:ext cx="71640" cy="216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18"/>
          <p:cNvSpPr/>
          <p:nvPr/>
        </p:nvSpPr>
        <p:spPr>
          <a:xfrm>
            <a:off x="4572000" y="5373720"/>
            <a:ext cx="71280" cy="216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1139760" y="1047600"/>
            <a:ext cx="7809120" cy="6480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ая соединительная линия 4"/>
          <p:cNvSpPr/>
          <p:nvPr/>
        </p:nvSpPr>
        <p:spPr>
          <a:xfrm flipV="1">
            <a:off x="4500720" y="5949720"/>
            <a:ext cx="4464000" cy="7189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7"/>
          <p:cNvSpPr/>
          <p:nvPr/>
        </p:nvSpPr>
        <p:spPr>
          <a:xfrm>
            <a:off x="6516720" y="6237360"/>
            <a:ext cx="71280" cy="216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2"/>
          <p:cNvSpPr/>
          <p:nvPr/>
        </p:nvSpPr>
        <p:spPr>
          <a:xfrm>
            <a:off x="6305760" y="5661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7530480" y="55166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rebuchet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4"/>
          <p:cNvSpPr/>
          <p:nvPr/>
        </p:nvSpPr>
        <p:spPr>
          <a:xfrm>
            <a:off x="4803480" y="587700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-</a:t>
            </a:r>
            <a:r>
              <a:rPr b="1" lang="ru-RU" sz="3200" spc="-1" strike="noStrike">
                <a:solidFill>
                  <a:srgbClr val="ffff00"/>
                </a:solidFill>
                <a:latin typeface="Trebuchet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17"/>
          <p:cNvSpPr/>
          <p:nvPr/>
        </p:nvSpPr>
        <p:spPr>
          <a:xfrm>
            <a:off x="7811280" y="6021360"/>
            <a:ext cx="73080" cy="216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18"/>
          <p:cNvSpPr/>
          <p:nvPr/>
        </p:nvSpPr>
        <p:spPr>
          <a:xfrm>
            <a:off x="5218920" y="6453360"/>
            <a:ext cx="73080" cy="2156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Заголовок 1" descr=""/>
          <p:cNvPicPr/>
          <p:nvPr/>
        </p:nvPicPr>
        <p:blipFill>
          <a:blip r:embed="rId2"/>
          <a:stretch/>
        </p:blipFill>
        <p:spPr>
          <a:xfrm>
            <a:off x="1139760" y="1620720"/>
            <a:ext cx="8766360" cy="1013040"/>
          </a:xfrm>
          <a:prstGeom prst="rect">
            <a:avLst/>
          </a:prstGeom>
          <a:ln w="0">
            <a:noFill/>
          </a:ln>
        </p:spPr>
      </p:pic>
      <p:pic>
        <p:nvPicPr>
          <p:cNvPr id="238" name="Заголовок 1" descr=""/>
          <p:cNvPicPr/>
          <p:nvPr/>
        </p:nvPicPr>
        <p:blipFill>
          <a:blip r:embed="rId3"/>
          <a:stretch/>
        </p:blipFill>
        <p:spPr>
          <a:xfrm>
            <a:off x="1139760" y="2700360"/>
            <a:ext cx="6967440" cy="725400"/>
          </a:xfrm>
          <a:prstGeom prst="rect">
            <a:avLst/>
          </a:prstGeom>
          <a:ln w="0">
            <a:noFill/>
          </a:ln>
        </p:spPr>
      </p:pic>
      <p:pic>
        <p:nvPicPr>
          <p:cNvPr id="239" name="Заголовок 1" descr=""/>
          <p:cNvPicPr/>
          <p:nvPr/>
        </p:nvPicPr>
        <p:blipFill>
          <a:blip r:embed="rId4"/>
          <a:stretch/>
        </p:blipFill>
        <p:spPr>
          <a:xfrm>
            <a:off x="1066680" y="3786120"/>
            <a:ext cx="6967800" cy="719280"/>
          </a:xfrm>
          <a:prstGeom prst="rect">
            <a:avLst/>
          </a:prstGeom>
          <a:ln w="0">
            <a:noFill/>
          </a:ln>
        </p:spPr>
      </p:pic>
      <p:pic>
        <p:nvPicPr>
          <p:cNvPr id="240" name="Заголовок 1" descr=""/>
          <p:cNvPicPr/>
          <p:nvPr/>
        </p:nvPicPr>
        <p:blipFill>
          <a:blip r:embed="rId5"/>
          <a:stretch/>
        </p:blipFill>
        <p:spPr>
          <a:xfrm>
            <a:off x="1066680" y="4791240"/>
            <a:ext cx="7047000" cy="71892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20" descr=""/>
          <p:cNvPicPr/>
          <p:nvPr/>
        </p:nvPicPr>
        <p:blipFill>
          <a:blip r:embed="rId6"/>
          <a:stretch/>
        </p:blipFill>
        <p:spPr>
          <a:xfrm>
            <a:off x="3462480" y="6480"/>
            <a:ext cx="400500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3:15:05Z</dcterms:created>
  <dc:creator>Admin</dc:creator>
  <dc:description/>
  <dc:language>en-US</dc:language>
  <cp:lastModifiedBy>Admin</cp:lastModifiedBy>
  <dcterms:modified xsi:type="dcterms:W3CDTF">2011-01-30T12:13:00Z</dcterms:modified>
  <cp:revision>4</cp:revision>
  <dc:subject/>
  <dc:title>Положительные  и отрицательные числа</dc:title>
</cp:coreProperties>
</file>